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058E-CDFC-4CCA-9771-B0F1A0DF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637-ECA2-4AB8-9E32-ACC242B4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28A-B903-4E5D-805D-D243BBB0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8C30-FED9-4042-BFE5-E3A44FCE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B644-188F-4EB6-A242-60F94C44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815-B6D7-4831-A702-F152B199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5FED-BFC8-4362-A61E-D073523D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F6E5-49F3-4597-814B-796AC56A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0D23-DFE1-41FC-8297-A3F64860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C844-A190-40EC-8A1E-80CAC5B1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42B4-11CD-4059-B4E2-A4B03BDB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D93-D753-4452-9C1D-7A6FDD7E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962D-2F24-41FE-A87C-9C2A73455D0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4 CuadroTexto"/>
          <p:cNvSpPr/>
          <p:nvPr/>
        </p:nvSpPr>
        <p:spPr>
          <a:xfrm>
            <a:off x="2843280" y="6093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Historias en primera pers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1119240" y="1066680"/>
            <a:ext cx="6905520" cy="4724640"/>
          </a:xfrm>
          <a:prstGeom prst="rect">
            <a:avLst/>
          </a:prstGeom>
          <a:ln w="0">
            <a:noFill/>
          </a:ln>
        </p:spPr>
      </p:pic>
      <p:sp>
        <p:nvSpPr>
          <p:cNvPr id="43" name="3 CuadroTexto"/>
          <p:cNvSpPr/>
          <p:nvPr/>
        </p:nvSpPr>
        <p:spPr>
          <a:xfrm>
            <a:off x="2411280" y="5300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aboramos un álbum de fotografí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9:17:30Z</dcterms:created>
  <dc:creator>Mari</dc:creator>
  <dc:description/>
  <dc:language>en-US</dc:language>
  <cp:lastModifiedBy>Mari</cp:lastModifiedBy>
  <dcterms:modified xsi:type="dcterms:W3CDTF">2015-04-21T19:23:41Z</dcterms:modified>
  <cp:revision>1</cp:revision>
  <dc:subject/>
  <dc:title>Diapositiva 1</dc:title>
</cp:coreProperties>
</file>